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1AD-4826-4FE8-BB51-E514FA45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A9CA-B52E-41F0-9535-8832FBF6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F237AC-F0AF-42B6-B20E-3E6E08B5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756F56-7E3F-4660-A797-03F8CCEA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7EF07A-AA26-4BB1-9DD4-CB57BD9C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2BB790-884B-4AC7-B3BA-A65B4CB2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BA033C-BEAB-43D6-AB61-27C4B4B4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CCC2E-EC23-4053-85B9-D448F0B0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3971B-D91B-47CE-BFD4-EE91EFB6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32D626-DDE8-4A1D-B478-FA79E322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66EC89-E4C4-4EB6-BAEF-74974306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B9748E-99E3-458D-B76E-F4C56D90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351-17C0-40DF-B62C-C762CB40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4AC9F-5C57-45A0-9A7C-67CBA37B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24297F-AFE1-4998-818D-BB9F8B07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0F23A4-D7E9-442D-A541-32098E4F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90B503-C11E-437D-98C5-BE48DB87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C4DBD5-BF7D-490D-889F-11647D97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8988B-F0BB-46C7-B840-16D12D38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F2A53-0AF1-4BDB-B2D8-0D401B64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8FEA1F-D640-4DD8-B0F2-20EC7803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D9F93-1B05-492E-9F8E-459FBF31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26274F-A373-431E-B2E1-8948759A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E98-68A3-4B7F-AE1C-75C1DE47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C256D3-8596-4F96-881E-926B7AB1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7B69C-AA50-45CB-9A96-FABA794E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5B374-7DF2-4663-8BE1-266FE5AA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AADBB-6B08-4F20-A82B-1A1AB51E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4819A-5977-43C0-B473-9146E81B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D7C8C-AFD2-4F0B-9EAA-7BC54BEE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136E0-CB93-4BA1-819C-E55F3626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93DD7-BCA5-4D1F-9619-3F9F6DCD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C51AA-7051-4658-AD97-1A22D45A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03E28-3E0D-4E2F-ADEC-4C5D72E8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8492-A193-4377-BDE0-2EFB8C44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63548-E4E2-4FC1-818D-DAD08BEB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E574D-9138-4443-92EF-95D2BBAF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BC103-F9CF-4388-9976-C1C7FD6B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72B70-22B2-4EEA-ACF2-0A238239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7EB28-CF0D-4E67-8CA0-78CFB0B4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7D6AD-B8B3-40AA-8591-16A6126F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10426A-6375-4ED0-9168-B3E2F1FA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E7D69A-CC85-4107-B5DC-0CDD216A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33FBF6-A815-4163-8400-07E93705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AB3FEE-57C0-4F35-93EA-56685082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DFF7-A9D9-4088-8BF8-DD8732C5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0C0DE3-BE3B-4B82-B326-8D9C99FA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62A280-506D-4A5D-8A26-6803B3A0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9C24EA-1D91-4B4A-AC09-AEC8B113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711884-728E-4CF6-885E-86FB9A45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99D15-C9B4-457F-86EF-D1CE2E56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A1A7-C492-4D6D-85A1-D89CDC76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3A06-34F4-4444-89CF-9D3E08DE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569F-C70C-4E97-97F5-73FF7EDF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273B-02D8-45FD-A5CF-DB9406AD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3C07-913C-46D7-BA7B-64B85A14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A303-74FD-4748-B5FE-6F31D4C4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BAE4-0FA7-4867-BF20-D1A261BE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84DF-A458-4B08-B4DF-211BCF86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BCFA-1415-4401-83B1-53B13B46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DB35-62D9-4476-967B-7F245AAD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5C08-A667-4BDB-8E93-7E4A16D8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39D43-B497-40BA-8A01-FA3E19B3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BEBA2-899E-468A-8B3D-43B0321B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BC9A7-F87C-41B0-A74B-84B53AF0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5AB38-659F-4A09-98B9-B9FB38C9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67921-8040-40A2-AF52-9DABA7ED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D21-8912-420D-8EE8-C73BDE39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EFF96-034A-49C5-9B11-20D3C1DE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159C5-3952-4A0F-83F0-2A8851C2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91A12-8AB6-49A6-896F-07C9FD37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3EA87-E5CD-4736-8F7D-ED374A02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5C99F-D76C-44E7-BFA5-F3B4CC41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A7253-E6C4-4950-86A7-D38E3E98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91B14-85EB-49CD-906C-D0A4BF0A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0490B-E216-41AD-B455-0D8ECBB8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E4B7C-AC30-4602-AC66-3D8215E8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EE665-6C5F-4849-A2D9-747F64B9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FF2D-22C7-49E5-A87F-9F88B0CD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47B2A-D42E-4AD0-9811-DB005B32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7D6EC-F35D-411D-BD4F-4A2E4646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A7FA7-A324-43FD-A490-D769A574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86ACE-1148-43A1-BE4B-2A78822A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47E31-DA4A-41EA-9D59-10189891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A275E-D4A9-4418-BF5C-FEED298D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B3258-2FB8-4818-BEA2-AD9C9BE1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8F0E0-AE1B-49AD-BBA6-83D2FFB3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46CA3-9793-48D2-9DF0-0DF27145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BE444-B494-43B9-A090-78EE3C9B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1C0-5296-46D9-B772-8C21B83A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2C6D9-B37D-4062-8229-DE3BE414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9DC71-3413-428B-87D7-C743AD50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C7217-2874-4327-AE7C-658F378F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1EAC7-085C-4BB9-913C-D080CFFE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DED40-6707-4941-9BCF-31AAA4CA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98826-3BA5-4EED-924E-FF8A3131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C33CB-1C0C-4B4F-B8A1-4F3E5D6B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691F9-2936-4FF5-8984-837E1D8B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96BE2-1B80-450B-B380-AAC27D23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75221-D09E-426D-8BF5-7F15C25A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F9B-92BB-4C7F-86C0-9FB969FD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7C9F4-0D2B-429C-8B88-02E5A30D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E6FF0-949C-4BC6-AB80-4FA66B16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24824-260C-435A-B5A6-F5EB4871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15015-566A-4549-BC50-3F50D5AF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06901-AD83-4243-8230-762D60FA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8D46B-0730-45F5-9B3A-E2B99F1C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46730-116E-489F-8B27-383CB0F4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A5CC0-212C-4DA5-ABE3-AEC9FB11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CB8DC-3402-47D8-8E15-FE3662AE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7DBE8-15F6-4F18-8CB3-4EB1ED2F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EB4-A2F9-46D9-8087-D83F22B9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7B0DB-3F11-42D3-A7D5-715DFD55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4FBA1-3D41-4046-8E31-AC181DD6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377A2-3F7C-45F0-8F69-842722BE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DF873-24D2-4B22-A954-F7518D8B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E0B34-84FD-42D0-977E-362D6713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08A2E-3162-4F21-BFE5-1F0003CC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EB733-F07C-4133-BF73-776BD74F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26739-421F-4CB2-8269-D7A6E086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FB3E8-CBC0-420E-B03B-0CF23569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97541-50E0-4B59-8DEA-AB71FD1A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F54-F386-4745-815A-57A5BF5B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86FF5-ADD1-4CC8-B3D5-CC54A3EA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40E2D-FCC0-4C81-B7C3-E29F1D23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C4458-289C-4429-B702-B7ED5900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312BD-F3D8-45E8-B731-D85C7703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217C4-0740-4644-BE84-4C0F4555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E5A8B-08CF-459B-8176-E7DD0B38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0B9F5-7840-41C8-A243-95C2EFA7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C742E-5167-46E5-844A-B4CD923A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544AB-7160-4CA9-8377-B890220E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A5499-DC64-4E2C-824A-641B58FD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A671-967C-4837-923D-925C7453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1E1C7-A1FF-409C-B4B4-73239144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29A5A-68C7-4F61-92B8-C0CF2995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2DD2E-123D-476E-8F98-3D8DAFA0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EE948-F592-4200-B8AB-44384B77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1FDE3-EE7C-46B1-8962-9026CC2C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D1206-C700-4427-AF6B-C2DC12A4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58293-E729-4488-9A60-C5ABE8BA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9A0ADC-642A-485C-BCD6-0D2B3E1F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29407-32C1-404F-8B70-D8605389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80F62-64AA-44CE-985A-54A8A342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A268-DBC0-44E5-94B5-6B65FE7CD5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F549-CD4A-444D-8F67-95423943D0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4423-4869-44AA-A7CB-F3F101690E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F002-F534-4FF5-BB34-F1D5012E37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D417-B2BF-40BB-80A1-A5DD616C49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3E34-7BAE-4D95-9C1B-D8C6C72F7E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FFB5-028C-42CE-9EC7-25F68835A8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4A39-3C5F-4179-9437-E8FD323DB9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A95B-470A-4FA1-8442-DA5E80416F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981E-D82F-48E3-9434-A10B2AA7C3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D0FD-A6BB-4052-8E64-E6E5622973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A3D9-3DF5-4444-8025-8BD338DAD4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Infant of a Diabetic Mother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LGA and SGA bab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Content Placeholder 3" descr="LGA.jpg"/>
          <p:cNvPicPr/>
          <p:nvPr/>
        </p:nvPicPr>
        <p:blipFill>
          <a:blip r:embed="rId1"/>
          <a:stretch/>
        </p:blipFill>
        <p:spPr>
          <a:xfrm>
            <a:off x="685800" y="1600200"/>
            <a:ext cx="3084480" cy="4672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http://newborns.stanford.edu/images/sga1.jpg"/>
          <p:cNvPicPr/>
          <p:nvPr/>
        </p:nvPicPr>
        <p:blipFill>
          <a:blip r:embed="rId2"/>
          <a:stretch/>
        </p:blipFill>
        <p:spPr>
          <a:xfrm>
            <a:off x="4114800" y="2438280"/>
            <a:ext cx="45910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glycemia: glucose &lt;40 mg/dl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27% of IDMs have hypoglycemia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occurs in first few hours of lif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econdary to persistent hyperinsulinemia while transplacental glucose supply has stopped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/S: lethargy, hypotonia, tremors, seizures, diaphoresis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calcemia: Ca &lt;7 mg/dl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occurs in first 24-72 hours of lif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due to low PTH in infant, which may be related to high maternal Ca during pregnancy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/S: asymptomatic with self resolution or jitteriness, tachypnea, seizures/tetany, lethargy, apnea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magnesemia: Mg &lt;1.5 mg/dl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40% of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from increased renal losses in diabetic mom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transient and asymptomat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ay need to treat if also hypocalcem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899"/>
                </a:solidFill>
                <a:latin typeface="Georgia"/>
              </a:rPr>
              <a:t>Respiratory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espiratory Distress Syndrome (RDS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more frequently in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Hyperinsulinemia causes delayed maturation of surfactant synthesi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Diabetic moms are more likely to go into premature labor and delivery, which puts infants at an even greater risk of having immature lungs at birth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D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Content Placeholder 3" descr="RDS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0844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espirato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052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ransient Tachypnea of the Newborn (TTN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Occurs more frequently in IDMs because of risk factors associated with having diabetes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matur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crosom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rth asphyxi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lycythem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reased likelihood of c-se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Caused by delayed resorption of fetal lung fluid, mild pulmonary immaturity, and mild surfactant deficiency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Usually resolves by 72 hours of life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TTN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3" name="Content Placeholder 5" descr="TTN.jpg"/>
          <p:cNvPicPr/>
          <p:nvPr/>
        </p:nvPicPr>
        <p:blipFill>
          <a:blip r:embed="rId1"/>
          <a:stretch/>
        </p:blipFill>
        <p:spPr>
          <a:xfrm>
            <a:off x="2438280" y="1828800"/>
            <a:ext cx="42703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ertrophic cardiomyopath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ost infants are asymptomatic, but 5-10% have respiratory distress, other signs of poor cardiac output, or heart failur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resolves by 6 months of ag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caused by hyperinsulinemia, which increases fat and glycogen deposition into myocardial cells, causes thickening of interventricular septum &amp;/or ventricular wall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ypertrophic Cardiomyopath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7" name="Content Placeholder 3" descr="HC.gif"/>
          <p:cNvPicPr/>
          <p:nvPr/>
        </p:nvPicPr>
        <p:blipFill>
          <a:blip r:embed="rId1"/>
          <a:stretch/>
        </p:blipFill>
        <p:spPr>
          <a:xfrm>
            <a:off x="2286000" y="1523880"/>
            <a:ext cx="46134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Introduction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Frequency: 3-10% of pregnant women have diabet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88% have gestational diabet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12% have known diabet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5% with Type I diabe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65% with Type II diabe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Cardiac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Poor diabetic control in the 1</a:t>
            </a:r>
            <a:r>
              <a:rPr b="0" lang="en-US" sz="2800" spc="-1" strike="noStrike" baseline="30000">
                <a:solidFill>
                  <a:srgbClr val="646b86"/>
                </a:solidFill>
                <a:latin typeface="Georgia"/>
              </a:rPr>
              <a:t>st</a:t>
            </a: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 trimester is associated with an increased risk of congenital malformation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2/3 of congenital anomalies are cardiovascular or CNS related.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Common cardiac anomalies: Transposition of the great arteries, ASD, VSD, aortic coarctation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 Anomal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1" name="Content Placeholder 3" descr="VSD.jpg"/>
          <p:cNvPicPr/>
          <p:nvPr/>
        </p:nvPicPr>
        <p:blipFill>
          <a:blip r:embed="rId1"/>
          <a:stretch/>
        </p:blipFill>
        <p:spPr>
          <a:xfrm>
            <a:off x="457200" y="1752480"/>
            <a:ext cx="4286160" cy="3429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" descr="http://scienceblogs.com/whitecoatunderground/upload/2009/08/transp/transposition.jpg"/>
          <p:cNvPicPr/>
          <p:nvPr/>
        </p:nvPicPr>
        <p:blipFill>
          <a:blip r:embed="rId2"/>
          <a:stretch/>
        </p:blipFill>
        <p:spPr>
          <a:xfrm>
            <a:off x="5257800" y="1523880"/>
            <a:ext cx="3352680" cy="3924360"/>
          </a:xfrm>
          <a:prstGeom prst="rect">
            <a:avLst/>
          </a:prstGeom>
          <a:ln w="0">
            <a:noFill/>
          </a:ln>
        </p:spPr>
      </p:pic>
      <p:sp>
        <p:nvSpPr>
          <p:cNvPr id="653" name="TextBox 5"/>
          <p:cNvSpPr/>
          <p:nvPr/>
        </p:nvSpPr>
        <p:spPr>
          <a:xfrm>
            <a:off x="5410080" y="57150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sition of the great 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Neur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CNS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25600" indent="-26172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Anencephaly and spina bifida occur 12-20x more frequently in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Caudal Regression Syndrome: incomplete development of the lumbar and sacral vertebra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ccurs 200x more frequently in IDM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pectrum of structural defects possibl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ssociated with neurologic impairment due to involvement of distal spine (i.e. incontinence, decreased growth and movement of legs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nencephaly and Caudal Regression Syndrome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7" name="Content Placeholder 3" descr="Anencephaly.jpg"/>
          <p:cNvPicPr/>
          <p:nvPr/>
        </p:nvPicPr>
        <p:blipFill>
          <a:blip r:embed="rId1"/>
          <a:stretch/>
        </p:blipFill>
        <p:spPr>
          <a:xfrm>
            <a:off x="533520" y="16002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We Care: Caudal Regression Syndrome"/>
          <p:cNvPicPr/>
          <p:nvPr/>
        </p:nvPicPr>
        <p:blipFill>
          <a:blip r:embed="rId2"/>
          <a:stretch/>
        </p:blipFill>
        <p:spPr>
          <a:xfrm>
            <a:off x="4773600" y="1676520"/>
            <a:ext cx="3905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GI and GU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GI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itus inversus, atresias, small left colon syndrome: presents like Hirschsprung disease, but innervation of the bowel is normal, inability to pass meconium resolves spontaneously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GU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enal agenesis and other urinary tract abnormaliti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Small Left Colon Syndrome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2" name="Content Placeholder 3" descr="SLCS.jpg"/>
          <p:cNvPicPr/>
          <p:nvPr/>
        </p:nvPicPr>
        <p:blipFill>
          <a:blip r:embed="rId1"/>
          <a:stretch/>
        </p:blipFill>
        <p:spPr>
          <a:xfrm>
            <a:off x="2286000" y="1752480"/>
            <a:ext cx="444024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Hemat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olycythemia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Intervention required when central hematocrit &gt; 65 with symptoms or &gt;70 when asymptomat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13-33% of IDMs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elated to hypoxia in utero -&gt; stimulates erythropoietin, which increases RBC production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Hyperviscosity in vasculature can cause sludging, ischemia, and infarction of internal organ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Hemat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erbilirubinem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11-29% of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isk factors include: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matur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rth injury resulting in bruising or cephalohematom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lycythemia causing increased hemolysis  and release of bilirub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Birth Inju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Macrosomia puts infant at risk for injuries during delivery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Shoulder dystocia can lead to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lavicular and/or humeral fractur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rachial plexus injuri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Traumatic delivery or need for vacuum/forceps assistance can lead to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ephalohematom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cial bruis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cial nerve inju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4" descr="facial-bruising1.jpg"/>
          <p:cNvPicPr/>
          <p:nvPr/>
        </p:nvPicPr>
        <p:blipFill>
          <a:blip r:embed="rId1"/>
          <a:stretch/>
        </p:blipFill>
        <p:spPr>
          <a:xfrm>
            <a:off x="2590920" y="3124080"/>
            <a:ext cx="3743280" cy="281016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Birth Injur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1" name="Content Placeholder 3" descr="erbs.jpg"/>
          <p:cNvPicPr/>
          <p:nvPr/>
        </p:nvPicPr>
        <p:blipFill>
          <a:blip r:embed="rId2"/>
          <a:stretch/>
        </p:blipFill>
        <p:spPr>
          <a:xfrm>
            <a:off x="380880" y="1447920"/>
            <a:ext cx="2908440" cy="35337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" descr="http://1.bp.blogspot.com/_AJgfsjyCikE/SjMFRLHDGnI/AAAAAAAAAac/VdIw73J4iLc/s200/Cephalohematoma.jpg"/>
          <p:cNvPicPr/>
          <p:nvPr/>
        </p:nvPicPr>
        <p:blipFill>
          <a:blip r:embed="rId3"/>
          <a:stretch/>
        </p:blipFill>
        <p:spPr>
          <a:xfrm>
            <a:off x="6477120" y="1676520"/>
            <a:ext cx="24573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isk of Complication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pends on degree of glucose contr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ite’s classification system helps predict perinatal mortal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er risk for complications to the fetus in moms with pre-gestational diabetes than with gestational diabete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i.e. increased risk for congenital anomalies, future obesity, and diabete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er risk of complications during pregnancy when diabetic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i.e. preeclampsia 2x more common in diabetic pregnancies vs. normal pregnancie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Work-Up and Management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37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blood suga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SGA or LGA, also check hematocri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urther work-up and management depends on patient’s clinical presentation and physical ex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ypoglycemia – early feeding or IVFs with dextr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ymptomatic electrolyte abnormalities – replete electrolyt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spiratory distress – Cardiopulmonary support, CXR/echo to search for cau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yperbilirubinemia – phototherap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lycythemia – IVF hydration or exchange transfus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euro/GI/GU anomalies – imaging studies, specialist consul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rognosi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rbidity and mortality lessen with adequate diabetes control during pregnanc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diabetes is poorly controlled, there is a higher risk of neurodevelopmental deficit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isk of CP and epilepsy is increase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isk of childhood obesity, diabetes, and metabolic syndrome is increase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2286000" y="263520"/>
            <a:ext cx="426708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athophysiology of Fetal Effect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6760"/>
            <a:ext cx="85374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ternal hyperglycemia acts like a teratogen -&gt; spontaneous abortions and malform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5" descr="http://www.lucinafoundation.org/assets/spina-bifida.jpg"/>
          <p:cNvPicPr/>
          <p:nvPr/>
        </p:nvPicPr>
        <p:blipFill>
          <a:blip r:embed="rId1"/>
          <a:stretch/>
        </p:blipFill>
        <p:spPr>
          <a:xfrm>
            <a:off x="685800" y="2743200"/>
            <a:ext cx="3621240" cy="3352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http://www.nature.com/jp/journal/v23/n8/images/7210987f2.jpg"/>
          <p:cNvPicPr/>
          <p:nvPr/>
        </p:nvPicPr>
        <p:blipFill>
          <a:blip r:embed="rId2"/>
          <a:stretch/>
        </p:blipFill>
        <p:spPr>
          <a:xfrm>
            <a:off x="4724280" y="2819520"/>
            <a:ext cx="3544920" cy="3282840"/>
          </a:xfrm>
          <a:prstGeom prst="rect">
            <a:avLst/>
          </a:prstGeom>
          <a:ln w="0">
            <a:noFill/>
          </a:ln>
        </p:spPr>
      </p:pic>
      <p:sp>
        <p:nvSpPr>
          <p:cNvPr id="618" name="TextBox 6"/>
          <p:cNvSpPr/>
          <p:nvPr/>
        </p:nvSpPr>
        <p:spPr>
          <a:xfrm>
            <a:off x="510552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us Inver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athophysiology of Fetal Effect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6760"/>
            <a:ext cx="8613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mittent maternal hyperglycemia causes fetal hyperglycemia -&gt; premature maturation of fetal pancreatic islet cells -&gt; hyperinsulinemia in the fet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ed insulin -&gt; macrosomia -&gt; increased metabolic rate -&gt; increased O2 consumption -&gt; relative hypoxia in the fetus -&gt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Stimulates erythropoietin -&gt; polycythemia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May be contributing factor to 20-30% stillbirth rate in poorly controlled diabetic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omplications At Delive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4560" y="17524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remature deliver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erinatal asphyx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Birth injur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4572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6349"/>
                </a:solidFill>
                <a:latin typeface="Georgia"/>
              </a:rPr>
              <a:t>Neonatal Effects</a:t>
            </a:r>
            <a:br>
              <a:rPr sz="2500"/>
            </a:br>
            <a:br>
              <a:rPr sz="3800"/>
            </a:br>
            <a:r>
              <a:rPr b="0" lang="en-US" sz="3600" spc="-1" strike="noStrike">
                <a:solidFill>
                  <a:srgbClr val="d16349"/>
                </a:solidFill>
                <a:latin typeface="Georgia"/>
              </a:rPr>
              <a:t>Seen in 0.6% to 4% of diabetic pregnancie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6760"/>
            <a:ext cx="8613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IUGR or macrosomia: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oms with poorly controlled diabetes and renal, cardiovascular, retinal disease (class F) are more likely to have a premature and/or IUGR baby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acrosomia is due to the direct effects of hyperinsulinemia 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abies are &gt;9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% in weight or &gt;4000g, with excess fat accumulation in abdominal and scapular regions, along with visceromegaly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22:31:36Z</dcterms:created>
  <dc:creator>hcmartinez</dc:creator>
  <dc:description/>
  <dc:language>en-US</dc:language>
  <cp:lastModifiedBy>HCMARTINEZ</cp:lastModifiedBy>
  <dcterms:modified xsi:type="dcterms:W3CDTF">2010-05-08T05:51:40Z</dcterms:modified>
  <cp:revision>43</cp:revision>
  <dc:subject/>
  <dc:title>Infant of a Diabetic Mother</dc:title>
</cp:coreProperties>
</file>